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82724-7AE6-490C-AD38-992681970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2B03B-36D1-4039-8D2D-8210A2AAD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878AA-7276-4EC4-82E7-2DB804557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BC37C-27C9-4A25-ABEB-F0633744E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1DAB1-AE7D-44D8-8FC5-60126E637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22A03-DD7A-48AF-9D36-72EBAA1EE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B6009-6C6D-4B09-810D-144FB47C5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0EEE6-D89D-48D6-AA7F-388F9CCF9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B7BBC-DBD7-4B0A-9AE7-163B34DBB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8CB99-2697-4189-9DC2-EF2A40F42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CADC9-D2D0-409B-8C1F-B6A298AD3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5D15F-8C9D-44D9-A972-CB8AB0F83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C6228-D29E-4DE0-AF3D-807567817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38128-F89D-4419-9F19-06C4C6A8C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DF42A-2D1B-4A77-A6F6-0E8D8A55D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647B1-CE70-4683-ABE9-0A87AE59D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B53A2-8934-44EA-B7F6-25B429AAA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2A8C3F-491F-42C9-8A77-2DA492EDFC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3D735A-DC6E-4FAB-BBFF-E1E91BC8C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DCA821-9A62-4D60-8520-4E0AEDF10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333EFB-FD8C-494D-81AB-89D420495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3CB56-E256-4796-8861-B4E4D9CBCD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EB659-877F-4884-A523-52B7A70FE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DA7D2-12C5-4EDC-94A4-80B12523B4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B212C-A605-482C-90EA-C8B2525B5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F57C6-5CC0-4EA8-A9CD-1F24DE507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EAB79-A042-46E5-9F10-492F6F09C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71B085-2E8E-4CD5-B964-EF405322E8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211FC8-471C-4185-9B85-4BFABA3FC6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EF5F00-8836-4B5A-BB56-FF02E1521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77199E-1EDB-4B0C-9C33-FE8EDE71F4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56271-3C0F-4BD3-99F4-B04106BCEC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E4E8D-7B16-4DC3-A027-95E0C47AB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89CC7-01B2-4236-88E8-FD0FD7CD2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85E426-1E49-4599-B3FC-0FBC156C6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246900-4EC7-426E-9DBD-CCB102BC14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8BDED8-B32F-404E-A17D-C3B0D3CB9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C090F-2BF8-4D68-87CD-70DAE5249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CA712-D8B9-4005-A302-D5900126B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2C66C-9B0F-4A4D-BBE0-1047D10DF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F315DE-5589-4575-A8E7-3D46E0C8F6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B07B0C-9151-44E3-A690-CC080133D5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4CE612-BE53-4843-AF2F-844929D20E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733413-DEAA-4B0D-BE19-D9606ECECF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79C25-A452-4833-8AB9-9DE61D0E7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A3073B-71CC-4462-AB56-6262826AB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06D589-4A60-439A-B8E5-7CF4457807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D8F8CF-16B2-4718-9852-51AA0C9C60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0FD48E-1E32-4760-8570-59B5C60FC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16EF85-2458-4F91-87C7-9122480978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1BDA03-0208-4F0F-A396-B5EA55222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10D11-2748-4DCE-998E-D7148C9C7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67A83-891A-496C-BE7B-7AD78F638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9DEBAD-27DE-4E6E-A4D4-FFC65075AB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4BDAB3-391D-47AF-9259-B89902FC8E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A9A17-E0E1-4F3E-A49D-A80178F7D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CF1134-6D04-47B8-94A8-D441DD6053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A785AE-F69F-4CC7-B55D-8EB2A5302F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8E3570-48E4-4418-8AD9-239CDFEBB3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D8231E-4199-4743-B548-93CED6D26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1D2810-C25E-4E4E-B989-1983526B80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D22600-3F4D-4580-8424-B570D3A977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96A90C-E44B-4C6D-BCBF-E74145330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B360DA-F63E-4871-A9A1-35E0282AD8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7277B1-B38A-416A-A6B4-DDB311AE4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874C5C-C8BD-4BED-8EB2-6835B922D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9DA10-AE9A-4BFD-96BC-917C18B4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39D7F-D170-46FA-A16B-A976C0E6F7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5B328D-532B-4A9F-9585-F90ACFCBD1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34FDF1-1301-4F86-8B37-8666869E3E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C87921-99F6-4127-BFB7-1655B0A3EA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36C1E0-500E-4CC2-A7A6-EE8668B022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2CA440-0AB0-4381-9E52-43D7C7E2C1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672E3E-52C3-42AB-AA35-DA50AC3112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740175-8479-4CEC-A2C5-EFC5947B6D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797FE7-2CD8-4515-8BDC-CF06F919F3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CE02F-10D2-427F-809A-DF1342E57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5F0D-2152-4046-A901-5FC40D76A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8AC25-5285-4525-A2D3-76283072F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BDE689-2ABF-4855-B5DC-9DE281CAE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ECE293-26E5-4B01-BB62-6EB9404064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035777-0ECB-4B20-9157-905F092D4D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4E6C4F-903A-4AE5-88F6-5F6F232EB6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2E9B1-85D6-43BB-9CA0-028E18CCF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CED1-D1EE-49EA-8E2E-1E30705AC9A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6"/>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405B-AE9C-4428-BA15-E288CDAEAECF}"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E7E5-DFC9-4C2E-9EE7-95F6E5F950B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8"/>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7"/>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0"/>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9"/>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7516-81DA-41B2-BA1E-8143F668BFAC}"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BE5B-339B-4D36-A39A-156B2EF2815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95E9-333C-465C-A6B2-DBC92A8A83EE}"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0A2B-D0DC-4228-854A-9CE884998218}"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wcsnet.org/ci/ReadingPlus/word_sorts.html"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42880" y="774720"/>
            <a:ext cx="8534520" cy="1981080"/>
          </a:xfrm>
          <a:prstGeom prst="rect">
            <a:avLst/>
          </a:prstGeom>
          <a:ln w="0">
            <a:noFill/>
          </a:ln>
        </p:spPr>
      </p:pic>
      <p:pic>
        <p:nvPicPr>
          <p:cNvPr id="302" name="Subtitle 2" descr=""/>
          <p:cNvPicPr/>
          <p:nvPr/>
        </p:nvPicPr>
        <p:blipFill>
          <a:blip r:embed="rId2"/>
          <a:stretch/>
        </p:blipFill>
        <p:spPr>
          <a:xfrm>
            <a:off x="512640" y="2170080"/>
            <a:ext cx="8296560" cy="1835280"/>
          </a:xfrm>
          <a:prstGeom prst="rect">
            <a:avLst/>
          </a:prstGeom>
          <a:ln w="0">
            <a:noFill/>
          </a:ln>
        </p:spPr>
      </p:pic>
      <p:sp>
        <p:nvSpPr>
          <p:cNvPr id="303" name="Text Box 4"/>
          <p:cNvSpPr/>
          <p:nvPr/>
        </p:nvSpPr>
        <p:spPr>
          <a:xfrm>
            <a:off x="1828800" y="4952880"/>
            <a:ext cx="6019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ed by: Kim Beeson, Heather Crawfor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hanie Swartz, and Sally Willia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7200" y="268200"/>
            <a:ext cx="8229600" cy="1395360"/>
          </a:xfrm>
          <a:prstGeom prst="rect">
            <a:avLst/>
          </a:prstGeom>
          <a:ln w="0">
            <a:noFill/>
          </a:ln>
        </p:spPr>
      </p:pic>
      <p:sp>
        <p:nvSpPr>
          <p:cNvPr id="321"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etermines a child’s stage of development so that the appropriate portion of the Feature Inventory can be dictated</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onsists of 20 words, grouped into sets of five, that become progressively more difficult (focuses on a different stage of word knowledge)</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Not intended for repeated use with the same students – once the spelling stage is established and the feature inventory used, the screening inventory is no longer necessary</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7200" y="268200"/>
            <a:ext cx="8229600" cy="1395360"/>
          </a:xfrm>
          <a:prstGeom prst="rect">
            <a:avLst/>
          </a:prstGeom>
          <a:ln w="0">
            <a:noFill/>
          </a:ln>
        </p:spPr>
      </p:pic>
      <p:sp>
        <p:nvSpPr>
          <p:cNvPr id="323"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The feature inventory is like the county-wide spelling inventory that was taken from </a:t>
            </a:r>
            <a:r>
              <a:rPr b="0" lang="en-US" sz="2300" spc="-1" strike="noStrike" u="sng">
                <a:solidFill>
                  <a:srgbClr val="ffffff"/>
                </a:solidFill>
                <a:uFillTx/>
                <a:latin typeface="Century Gothic"/>
              </a:rPr>
              <a:t>Words Their Way</a:t>
            </a:r>
            <a:r>
              <a:rPr b="0" lang="en-US" sz="2300" spc="-1" strike="noStrike">
                <a:solidFill>
                  <a:srgbClr val="ffffff"/>
                </a:solidFill>
                <a:latin typeface="Century Gothic"/>
              </a:rPr>
              <a:t>.</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Form A and Form B were created so students wouldn’t become overly familiar with certain words as a result of repeated use across grade levels (Form A p.54-57 and Form B p.64-67 in Word Journeys)</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Dictating one inventory form more than twice to a child during the same school year is discouraged</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We suggest that you give the features inventory to those students that fall into two stages based on the screening inventory.</a:t>
            </a: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7200" y="268200"/>
            <a:ext cx="8229600" cy="1395360"/>
          </a:xfrm>
          <a:prstGeom prst="rect">
            <a:avLst/>
          </a:prstGeom>
          <a:ln w="0">
            <a:noFill/>
          </a:ln>
        </p:spPr>
      </p:pic>
      <p:sp>
        <p:nvSpPr>
          <p:cNvPr id="325"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mall group instruction enables students to explore spelling features within their zone of proximity</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en planning appropriate activities start with an area of strength</a:t>
            </a:r>
            <a:endParaRPr b="0" lang="en-US" sz="3000" spc="-1" strike="noStrike">
              <a:solidFill>
                <a:srgbClr val="ffffff"/>
              </a:solidFill>
              <a:latin typeface="Century Gothic"/>
            </a:endParaRPr>
          </a:p>
          <a:p>
            <a:pPr lvl="1" marL="822240" indent="-285840">
              <a:lnSpc>
                <a:spcPct val="90000"/>
              </a:lnSpc>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or instructional strategies to be beneficial, they must move forward from the child’s secure knowledge base</a:t>
            </a:r>
            <a:endParaRPr b="0" lang="en-US" sz="2600" spc="-1" strike="noStrike">
              <a:solidFill>
                <a:srgbClr val="ffffff"/>
              </a:solidFill>
              <a:latin typeface="Century Gothic"/>
            </a:endParaRPr>
          </a:p>
          <a:p>
            <a:pPr lvl="1" marL="822240" indent="-285840">
              <a:lnSpc>
                <a:spcPct val="90000"/>
              </a:lnSpc>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tudents are likely to remain at a given stage of development for a year and a half or more</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7200" y="268200"/>
            <a:ext cx="8229600" cy="1395360"/>
          </a:xfrm>
          <a:prstGeom prst="rect">
            <a:avLst/>
          </a:prstGeom>
          <a:ln w="0">
            <a:noFill/>
          </a:ln>
        </p:spPr>
      </p:pic>
      <p:sp>
        <p:nvSpPr>
          <p:cNvPr id="327" name=""/>
          <p:cNvSpPr txBox="1"/>
          <p:nvPr/>
        </p:nvSpPr>
        <p:spPr>
          <a:xfrm>
            <a:off x="457200" y="16002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ord sorts allow students to discover and reflect on certain orthographic features (spelling patterns) by examining words with and without that featur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any types of sorts: closed, open, blind, writing, speed, concep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me sorts rely on words and others on pictures, but they all involve categories in which the students can sort the word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7200" y="268200"/>
            <a:ext cx="8229600" cy="1395360"/>
          </a:xfrm>
          <a:prstGeom prst="rect">
            <a:avLst/>
          </a:prstGeom>
          <a:ln w="0">
            <a:noFill/>
          </a:ln>
        </p:spPr>
      </p:pic>
      <p:sp>
        <p:nvSpPr>
          <p:cNvPr id="329"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oth sight and sound associations need to be integrated into a student’s orthographic knowledge</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t is desirable to develop sorts that have both sound and visual patterns</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e example (Word Journeys pg. 78)</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utlier words that do not fit a particular pattern can be included in sorts – this discourages overreliance on either visual or sound clue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7200" y="268200"/>
            <a:ext cx="8229600" cy="1395360"/>
          </a:xfrm>
          <a:prstGeom prst="rect">
            <a:avLst/>
          </a:prstGeom>
          <a:ln w="0">
            <a:noFill/>
          </a:ln>
        </p:spPr>
      </p:pic>
      <p:sp>
        <p:nvSpPr>
          <p:cNvPr id="331" name=""/>
          <p:cNvSpPr txBox="1"/>
          <p:nvPr/>
        </p:nvSpPr>
        <p:spPr>
          <a:xfrm>
            <a:off x="457200" y="1882800"/>
            <a:ext cx="8229600" cy="4572000"/>
          </a:xfrm>
          <a:prstGeom prst="rect">
            <a:avLst/>
          </a:prstGeom>
          <a:noFill/>
          <a:ln w="0">
            <a:noFill/>
          </a:ln>
        </p:spPr>
        <p:txBody>
          <a:bodyPr anchor="t">
            <a:normAutofit/>
          </a:bodyPr>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tudents need to be able to read the words being used so they can attend to pattern rather than decoding</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onsider the word’s sophistication relative to the student – will they use this word in their writing or likely encounter it in their reading?</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How many words? </a:t>
            </a:r>
            <a:endParaRPr b="0" lang="en-US" sz="2800" spc="-1" strike="noStrike">
              <a:solidFill>
                <a:srgbClr val="ffffff"/>
              </a:solidFill>
              <a:latin typeface="Century Gothic"/>
            </a:endParaRPr>
          </a:p>
          <a:p>
            <a:pPr lvl="1" marL="822240" indent="-285840">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y need enough examples of each category type to distinguish similarities and difference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7200" y="122400"/>
            <a:ext cx="8229600" cy="1809720"/>
          </a:xfrm>
          <a:prstGeom prst="rect">
            <a:avLst/>
          </a:prstGeom>
          <a:ln w="0">
            <a:noFill/>
          </a:ln>
        </p:spPr>
      </p:pic>
      <p:sp>
        <p:nvSpPr>
          <p:cNvPr id="333"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xplicit instruction should occur at the start of each exploration of new word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e Steps for Guided Word Walk – </a:t>
            </a:r>
            <a:r>
              <a:rPr b="0" lang="en-US" sz="2600" spc="-1" strike="noStrike" u="sng">
                <a:solidFill>
                  <a:srgbClr val="ffffff"/>
                </a:solidFill>
                <a:uFillTx/>
                <a:latin typeface="Century Gothic"/>
              </a:rPr>
              <a:t>Word</a:t>
            </a:r>
            <a:r>
              <a:rPr b="0" lang="en-US" sz="2600" spc="-1" strike="noStrike">
                <a:solidFill>
                  <a:srgbClr val="ffffff"/>
                </a:solidFill>
                <a:latin typeface="Century Gothic"/>
              </a:rPr>
              <a:t> </a:t>
            </a:r>
            <a:r>
              <a:rPr b="0" lang="en-US" sz="2600" spc="-1" strike="noStrike" u="sng">
                <a:solidFill>
                  <a:srgbClr val="ffffff"/>
                </a:solidFill>
                <a:uFillTx/>
                <a:latin typeface="Century Gothic"/>
              </a:rPr>
              <a:t>Journeys</a:t>
            </a:r>
            <a:r>
              <a:rPr b="0" lang="en-US" sz="2600" spc="-1" strike="noStrike">
                <a:solidFill>
                  <a:srgbClr val="ffffff"/>
                </a:solidFill>
                <a:latin typeface="Century Gothic"/>
              </a:rPr>
              <a:t> pg. 86</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457200" y="268200"/>
            <a:ext cx="8229600" cy="1395360"/>
          </a:xfrm>
          <a:prstGeom prst="rect">
            <a:avLst/>
          </a:prstGeom>
          <a:ln w="0">
            <a:noFill/>
          </a:ln>
        </p:spPr>
      </p:pic>
      <p:sp>
        <p:nvSpPr>
          <p:cNvPr id="335"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Closed – students match words to like categories identified by key words or labeled categorie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Open – students sort a set of words freely and come up with their own classification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Blind – students do not see the words they are sorting. A word is read aloud and a student identifies which category in which it belongs based on sound clue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Writing – words are written down under appropriate categorie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Speed – students sort their words into appropriate categories as quickly as possible (takes place after students can accurately categorize their word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Concept – see Word Journeys pgs. 91-92</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ALWAYS have students write a discovery sentence (what they learned from the sort) after each initial sort!</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oncept Sort Example</a:t>
            </a:r>
            <a:endParaRPr b="0" lang="en-US" sz="4200" spc="-1" strike="noStrike">
              <a:solidFill>
                <a:srgbClr val="ff5c9c"/>
              </a:solidFill>
              <a:latin typeface="Century Gothic"/>
            </a:endParaRPr>
          </a:p>
        </p:txBody>
      </p:sp>
      <p:sp>
        <p:nvSpPr>
          <p:cNvPr id="337"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Earthquakes</a:t>
            </a:r>
            <a:endParaRPr b="0" lang="en-US" sz="26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Faults</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ectonics</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remor</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Richter</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Magnitude</a:t>
            </a:r>
            <a:endParaRPr b="0" lang="en-US" sz="2200" spc="-1" strike="noStrike">
              <a:solidFill>
                <a:srgbClr val="ffffff"/>
              </a:solidFill>
              <a:latin typeface="Century Gothic"/>
            </a:endParaRPr>
          </a:p>
          <a:p>
            <a:pPr lvl="1" marL="8222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
        <p:nvSpPr>
          <p:cNvPr id="338" name="PlaceHolder 3"/>
          <p:cNvSpPr>
            <a:spLocks noGrp="1"/>
          </p:cNvSpPr>
          <p:nvPr>
            <p:ph/>
          </p:nvPr>
        </p:nvSpPr>
        <p:spPr>
          <a:xfrm>
            <a:off x="4648320" y="1882800"/>
            <a:ext cx="4038480" cy="4572000"/>
          </a:xfrm>
          <a:prstGeom prst="rect">
            <a:avLst/>
          </a:prstGeom>
          <a:noFill/>
          <a:ln w="0">
            <a:noFill/>
          </a:ln>
        </p:spPr>
        <p:txBody>
          <a:bodyPr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Volcanoes</a:t>
            </a:r>
            <a:endParaRPr b="0" lang="en-US" sz="26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Magma</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Fissure</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Igneous</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Emit</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rater</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Vent</a:t>
            </a:r>
            <a:endParaRPr b="0" lang="en-US" sz="2200" spc="-1" strike="noStrike">
              <a:solidFill>
                <a:srgbClr val="ffffff"/>
              </a:solidFill>
              <a:latin typeface="Century Gothic"/>
            </a:endParaRPr>
          </a:p>
          <a:p>
            <a:pPr lvl="1" marL="8222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457200" y="122400"/>
            <a:ext cx="8229600" cy="1809720"/>
          </a:xfrm>
          <a:prstGeom prst="rect">
            <a:avLst/>
          </a:prstGeom>
          <a:ln w="0">
            <a:noFill/>
          </a:ln>
        </p:spPr>
      </p:pic>
      <p:sp>
        <p:nvSpPr>
          <p:cNvPr id="340"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AW (Sort, Alphabetize, and Write)- students complete a closed sort (with categories given), put the words under each category in alphabetical order, then write each list down under the appropriate category heading.</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s is a great opportunity to have students record a discovery about their categori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457200" y="268200"/>
            <a:ext cx="8229600" cy="1395360"/>
          </a:xfrm>
          <a:prstGeom prst="rect">
            <a:avLst/>
          </a:prstGeom>
          <a:ln w="0">
            <a:noFill/>
          </a:ln>
        </p:spPr>
      </p:pic>
      <p:sp>
        <p:nvSpPr>
          <p:cNvPr id="305"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1: Emergent/Preliterat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2: Letter Nam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3: Within Word Patter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4: Syllable Junctur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5: Derivational Constancy</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7200" y="122400"/>
            <a:ext cx="8229600" cy="180972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rite &amp; Draw – students choose to either write a sentence with a word or draw a picture of that word (this is done for each weekly word)</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ach drawing or sentence must illustrate the meaning of the word!</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tudents should paint a picture with words.  Any drawings should be labeled and weekly words within sentences should be underlined.</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ll weekly words should be spelled correctly</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7200" y="122400"/>
            <a:ext cx="8229600" cy="1809720"/>
          </a:xfrm>
          <a:prstGeom prst="rect">
            <a:avLst/>
          </a:prstGeom>
          <a:ln w="0">
            <a:noFill/>
          </a:ln>
        </p:spPr>
      </p:pic>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ord Hunts – students search through material they are reading to find additional words with the features being studied  (best reserved for the middle or end of the week because students must apply and extend their understandings of the pattern).  Students should find at least 10 words, with a minimum of 1 word per category.</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7200" y="268200"/>
            <a:ext cx="8229600" cy="1395360"/>
          </a:xfrm>
          <a:prstGeom prst="rect">
            <a:avLst/>
          </a:prstGeom>
          <a:ln w="0">
            <a:noFill/>
          </a:ln>
        </p:spPr>
      </p:pic>
      <p:sp>
        <p:nvSpPr>
          <p:cNvPr id="346"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 closed, blind, written sort is the best way to evaluate a students spelling, as well as their knowledge of the pattern focused on that week</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student is given a key word or category label for each pattern to be sorted.  Words are called out orally be the teacher while students must write that word under the correct category</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One point is awarded for correct spelling, while another point is awarded for correct category placemen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Helpful Websites</a:t>
            </a:r>
            <a:endParaRPr b="0" lang="en-US" sz="4200" spc="-1" strike="noStrike">
              <a:solidFill>
                <a:srgbClr val="ff5c9c"/>
              </a:solidFill>
              <a:latin typeface="Century Gothic"/>
            </a:endParaRPr>
          </a:p>
        </p:txBody>
      </p:sp>
      <p:sp>
        <p:nvSpPr>
          <p:cNvPr id="348" name="PlaceHolder 2"/>
          <p:cNvSpPr>
            <a:spLocks noGrp="1"/>
          </p:cNvSpPr>
          <p:nvPr>
            <p:ph/>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oth of these websites include sorts that are organized based on the letters given to each orthographic feature.</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1"/>
              </a:rPr>
              <a:t>http://www.wcsnet.org/ci/ReadingPlus/word_sorts.html</a:t>
            </a:r>
            <a:endParaRPr b="0" lang="en-US" sz="3000" spc="-1" strike="noStrike">
              <a:solidFill>
                <a:srgbClr val="ffffff"/>
              </a:solidFill>
              <a:latin typeface="Century Gothic"/>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db.dadecountyschools.org/~davis/wordstudy/</a:t>
            </a:r>
            <a:endParaRPr b="0" lang="en-US" sz="3000" spc="-1" strike="noStrike">
              <a:solidFill>
                <a:srgbClr val="ffffff"/>
              </a:solidFill>
              <a:latin typeface="Century Gothic"/>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5c9c"/>
                </a:solidFill>
                <a:latin typeface="Century Gothic"/>
              </a:rPr>
              <a:t>Your Turn!</a:t>
            </a:r>
            <a:endParaRPr b="0" lang="en-US" sz="6600" spc="-1" strike="noStrike">
              <a:solidFill>
                <a:srgbClr val="ff5c9c"/>
              </a:solidFill>
              <a:latin typeface="Century Gothic"/>
            </a:endParaRPr>
          </a:p>
        </p:txBody>
      </p:sp>
      <p:sp>
        <p:nvSpPr>
          <p:cNvPr id="350" name="PlaceHolder 2"/>
          <p:cNvSpPr>
            <a:spLocks noGrp="1"/>
          </p:cNvSpPr>
          <p:nvPr>
            <p:ph/>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ut your words apart.</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ry to figure out a way to sort the words. Is there another way you can sort them?</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iscuss your findings and determine a class sort (or two!).</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rt words according to the class sort and write down the sort in alphabetical order.</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on’t forget your “What I learned…” statemen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7200" y="268200"/>
            <a:ext cx="8229600" cy="1395360"/>
          </a:xfrm>
          <a:prstGeom prst="rect">
            <a:avLst/>
          </a:prstGeom>
          <a:ln w="0">
            <a:noFill/>
          </a:ln>
        </p:spPr>
      </p:pic>
      <p:sp>
        <p:nvSpPr>
          <p:cNvPr id="30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first stage of spelling developmen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cludes the writing attempts of students who are preliterat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hildren’s knowledge of writing will vary considerably during this stag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udents do not move out of this stage until they develop phonemic awarenes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7200" y="268200"/>
            <a:ext cx="8229600" cy="1395360"/>
          </a:xfrm>
          <a:prstGeom prst="rect">
            <a:avLst/>
          </a:prstGeom>
          <a:ln w="0">
            <a:noFill/>
          </a:ln>
        </p:spPr>
      </p:pic>
      <p:sp>
        <p:nvSpPr>
          <p:cNvPr id="309" name=""/>
          <p:cNvSpPr txBox="1"/>
          <p:nvPr/>
        </p:nvSpPr>
        <p:spPr>
          <a:xfrm>
            <a:off x="457200" y="1882800"/>
            <a:ext cx="8229600" cy="4572000"/>
          </a:xfrm>
          <a:prstGeom prst="rect">
            <a:avLst/>
          </a:prstGeom>
          <a:noFill/>
          <a:ln w="0">
            <a:noFill/>
          </a:ln>
        </p:spPr>
        <p:txBody>
          <a:bodyPr anchor="t">
            <a:normAutofit fontScale="93000"/>
          </a:bodyPr>
          <a:p>
            <a:pPr marL="416160" indent="-355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Children have only recently achieved a concept of word and begun to read</a:t>
            </a:r>
            <a:endParaRPr b="0" lang="en-US" sz="2300" spc="-1" strike="noStrike">
              <a:solidFill>
                <a:srgbClr val="ffffff"/>
              </a:solidFill>
              <a:latin typeface="Century Gothic"/>
            </a:endParaRPr>
          </a:p>
          <a:p>
            <a:pPr marL="416160" indent="-355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Children at this stage rely on the </a:t>
            </a:r>
            <a:r>
              <a:rPr b="0" i="1" lang="en-US" sz="2300" spc="-1" strike="noStrike">
                <a:solidFill>
                  <a:srgbClr val="ffffff"/>
                </a:solidFill>
                <a:latin typeface="Century Gothic"/>
              </a:rPr>
              <a:t>names </a:t>
            </a:r>
            <a:r>
              <a:rPr b="0" lang="en-US" sz="2300" spc="-1" strike="noStrike">
                <a:solidFill>
                  <a:srgbClr val="ffffff"/>
                </a:solidFill>
                <a:latin typeface="Century Gothic"/>
              </a:rPr>
              <a:t>of letters to spell words, approaching each word one sound at a time</a:t>
            </a:r>
            <a:endParaRPr b="0" lang="en-US" sz="2300" spc="-1" strike="noStrike">
              <a:solidFill>
                <a:srgbClr val="ffffff"/>
              </a:solidFill>
              <a:latin typeface="Century Gothic"/>
            </a:endParaRPr>
          </a:p>
          <a:p>
            <a:pPr marL="416160" indent="-355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Characteristics of Letter Name spellers: </a:t>
            </a:r>
            <a:endParaRPr b="0" lang="en-US" sz="23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mits silent, long vowel markers (SHAD=shade)</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mits vowels in unstressed syllables (TMATO=tomato)</a:t>
            </a:r>
            <a:endParaRPr b="0" lang="en-US" sz="2000" spc="-1" strike="noStrike">
              <a:solidFill>
                <a:srgbClr val="ffffff"/>
              </a:solidFill>
              <a:latin typeface="Century Gothic"/>
            </a:endParaRPr>
          </a:p>
          <a:p>
            <a:pPr marL="416160" indent="-355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Letter name features: </a:t>
            </a:r>
            <a:endParaRPr b="0" lang="en-US" sz="23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itial &amp; final consonants</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itial consonant blends and digraphs (The word blend starts and ends with a blend(bl-nd) and diagraph ends in a diagraph (-ph))</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hort vowels</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ffricate (-ch and –j) the speech sound heard in some words ex. “Job” spelled like “gob” and “drum” like “jrom”</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nal consonant blends and digraphs</a:t>
            </a:r>
            <a:endParaRPr b="0" lang="en-US" sz="2000" spc="-1" strike="noStrike">
              <a:solidFill>
                <a:srgbClr val="ffffff"/>
              </a:solidFill>
              <a:latin typeface="Century Gothic"/>
            </a:endParaRPr>
          </a:p>
          <a:p>
            <a:pPr marL="416160" indent="-355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7200" y="268200"/>
            <a:ext cx="8229600" cy="1395360"/>
          </a:xfrm>
          <a:prstGeom prst="rect">
            <a:avLst/>
          </a:prstGeom>
          <a:ln w="0">
            <a:noFill/>
          </a:ln>
        </p:spPr>
      </p:pic>
      <p:sp>
        <p:nvSpPr>
          <p:cNvPr id="311"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Children have developed sight word vocabularies, they are able to chunk parts of words, fluency is evident in phrase-by-phrase reading</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Move to more conventional spelling</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Short vowel substitutions gradually disappear, and long vowel markers appear</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Pattern mastery, especially the marking of long vowels is at the heart of this stage</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Within Word features:</a:t>
            </a:r>
            <a:endParaRPr b="0" lang="en-US" sz="23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Vowel-consonant-e</a:t>
            </a:r>
            <a:endParaRPr b="0" lang="en-US" sz="20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R-controlled vowel patterns</a:t>
            </a:r>
            <a:endParaRPr b="0" lang="en-US" sz="20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dditional common long vowel patterns</a:t>
            </a:r>
            <a:endParaRPr b="0" lang="en-US" sz="20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omplex consonant patterns</a:t>
            </a:r>
            <a:endParaRPr b="0" lang="en-US" sz="20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bstract vowel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7200" y="268200"/>
            <a:ext cx="8229600" cy="1395360"/>
          </a:xfrm>
          <a:prstGeom prst="rect">
            <a:avLst/>
          </a:prstGeom>
          <a:ln w="0">
            <a:noFill/>
          </a:ln>
        </p:spPr>
      </p:pic>
      <p:sp>
        <p:nvSpPr>
          <p:cNvPr id="313"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Children have become proficient readers and process print efficiently</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 </a:t>
            </a:r>
            <a:r>
              <a:rPr b="0" lang="en-US" sz="2100" spc="-1" strike="noStrike">
                <a:solidFill>
                  <a:srgbClr val="ffffff"/>
                </a:solidFill>
                <a:latin typeface="Century Gothic"/>
              </a:rPr>
              <a:t>Most vowel patterns in single-syllable words are used correctly</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The focus of this stage is learning to apply pattern knowledge within syllables and across syllable boundaries</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Student difficulties at this stage stem from the schwa sound (pronounced “uh”) that occurs in unstressed syllables because it can be represented by any of the five vowels</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Syllable Juncture features:</a:t>
            </a:r>
            <a:endParaRPr b="0" lang="en-US" sz="21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oubling &amp; e-drop with -ed and -ing endings </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Other doubling patterns</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ong vowel patterns in the stressed syllable</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controlled vowels in the stressed syllable</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Vowel patterns in the unstressed syllables</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7200" y="268200"/>
            <a:ext cx="8229600" cy="1395360"/>
          </a:xfrm>
          <a:prstGeom prst="rect">
            <a:avLst/>
          </a:prstGeom>
          <a:ln w="0">
            <a:noFill/>
          </a:ln>
        </p:spPr>
      </p:pic>
      <p:sp>
        <p:nvSpPr>
          <p:cNvPr id="315"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last stage of spelling development and one that continues through adulthood</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ocus on meaning related to prefixes, suffixes, and roots</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Learning to preserve the meaning units of derivationally related words is the key issue confronting spellers at this stage (when root words do not stay in tact, example: </a:t>
            </a:r>
            <a:r>
              <a:rPr b="0" lang="en-US" sz="2600" spc="-1" strike="noStrike" u="sng">
                <a:solidFill>
                  <a:srgbClr val="ffffff"/>
                </a:solidFill>
                <a:uFillTx/>
                <a:latin typeface="Century Gothic"/>
              </a:rPr>
              <a:t>aud</a:t>
            </a:r>
            <a:r>
              <a:rPr b="0" lang="en-US" sz="2600" spc="-1" strike="noStrike">
                <a:solidFill>
                  <a:srgbClr val="ffffff"/>
                </a:solidFill>
                <a:latin typeface="Century Gothic"/>
              </a:rPr>
              <a:t>ible)</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Derivational Constancy features</a:t>
            </a:r>
            <a:endParaRPr b="0" lang="en-US" sz="2600" spc="-1" strike="noStrike">
              <a:solidFill>
                <a:srgbClr val="ffffff"/>
              </a:solidFill>
              <a:latin typeface="Century Gothic"/>
            </a:endParaRPr>
          </a:p>
          <a:p>
            <a:pPr lvl="1" marL="822240" indent="-285840">
              <a:lnSpc>
                <a:spcPct val="8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Silent and sounded consonants (has</a:t>
            </a:r>
            <a:r>
              <a:rPr b="0" lang="en-US" sz="2200" spc="-1" strike="noStrike" u="sng">
                <a:solidFill>
                  <a:srgbClr val="ffffff"/>
                </a:solidFill>
                <a:uFillTx/>
                <a:latin typeface="Century Gothic"/>
              </a:rPr>
              <a:t>t</a:t>
            </a:r>
            <a:r>
              <a:rPr b="0" lang="en-US" sz="2200" spc="-1" strike="noStrike">
                <a:solidFill>
                  <a:srgbClr val="ffffff"/>
                </a:solidFill>
                <a:latin typeface="Century Gothic"/>
              </a:rPr>
              <a:t>en / has</a:t>
            </a:r>
            <a:r>
              <a:rPr b="0" lang="en-US" sz="2200" spc="-1" strike="noStrike" u="sng">
                <a:solidFill>
                  <a:srgbClr val="ffffff"/>
                </a:solidFill>
                <a:uFillTx/>
                <a:latin typeface="Century Gothic"/>
              </a:rPr>
              <a:t>t</a:t>
            </a:r>
            <a:r>
              <a:rPr b="0" lang="en-US" sz="2200" spc="-1" strike="noStrike">
                <a:solidFill>
                  <a:srgbClr val="ffffff"/>
                </a:solidFill>
                <a:latin typeface="Century Gothic"/>
              </a:rPr>
              <a:t>e)</a:t>
            </a:r>
            <a:endParaRPr b="0" lang="en-US" sz="2200" spc="-1" strike="noStrike">
              <a:solidFill>
                <a:srgbClr val="ffffff"/>
              </a:solidFill>
              <a:latin typeface="Century Gothic"/>
            </a:endParaRPr>
          </a:p>
          <a:p>
            <a:pPr lvl="1" marL="822240" indent="-285840">
              <a:lnSpc>
                <a:spcPct val="8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onsonant changes (exclu</a:t>
            </a:r>
            <a:r>
              <a:rPr b="0" lang="en-US" sz="2200" spc="-1" strike="noStrike" u="sng">
                <a:solidFill>
                  <a:srgbClr val="ffffff"/>
                </a:solidFill>
                <a:uFillTx/>
                <a:latin typeface="Century Gothic"/>
              </a:rPr>
              <a:t>de</a:t>
            </a:r>
            <a:r>
              <a:rPr b="0" lang="en-US" sz="2200" spc="-1" strike="noStrike">
                <a:solidFill>
                  <a:srgbClr val="ffffff"/>
                </a:solidFill>
                <a:latin typeface="Century Gothic"/>
              </a:rPr>
              <a:t> – exclu</a:t>
            </a:r>
            <a:r>
              <a:rPr b="0" lang="en-US" sz="2200" spc="-1" strike="noStrike" u="sng">
                <a:solidFill>
                  <a:srgbClr val="ffffff"/>
                </a:solidFill>
                <a:uFillTx/>
                <a:latin typeface="Century Gothic"/>
              </a:rPr>
              <a:t>s</a:t>
            </a:r>
            <a:r>
              <a:rPr b="0" lang="en-US" sz="2200" spc="-1" strike="noStrike">
                <a:solidFill>
                  <a:srgbClr val="ffffff"/>
                </a:solidFill>
                <a:latin typeface="Century Gothic"/>
              </a:rPr>
              <a:t>ion)</a:t>
            </a:r>
            <a:endParaRPr b="0" lang="en-US" sz="2200" spc="-1" strike="noStrike">
              <a:solidFill>
                <a:srgbClr val="ffffff"/>
              </a:solidFill>
              <a:latin typeface="Century Gothic"/>
            </a:endParaRPr>
          </a:p>
          <a:p>
            <a:pPr lvl="1" marL="822240" indent="-285840">
              <a:lnSpc>
                <a:spcPct val="8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Vowel changes (dem</a:t>
            </a:r>
            <a:r>
              <a:rPr b="0" lang="en-US" sz="2200" spc="-1" strike="noStrike" u="sng">
                <a:solidFill>
                  <a:srgbClr val="ffffff"/>
                </a:solidFill>
                <a:uFillTx/>
                <a:latin typeface="Century Gothic"/>
              </a:rPr>
              <a:t>o</a:t>
            </a:r>
            <a:r>
              <a:rPr b="0" lang="en-US" sz="2200" spc="-1" strike="noStrike">
                <a:solidFill>
                  <a:srgbClr val="ffffff"/>
                </a:solidFill>
                <a:latin typeface="Century Gothic"/>
              </a:rPr>
              <a:t>cracy – dem</a:t>
            </a:r>
            <a:r>
              <a:rPr b="0" lang="en-US" sz="2200" spc="-1" strike="noStrike" u="sng">
                <a:solidFill>
                  <a:srgbClr val="ffffff"/>
                </a:solidFill>
                <a:uFillTx/>
                <a:latin typeface="Century Gothic"/>
              </a:rPr>
              <a:t>o</a:t>
            </a:r>
            <a:r>
              <a:rPr b="0" lang="en-US" sz="2200" spc="-1" strike="noStrike">
                <a:solidFill>
                  <a:srgbClr val="ffffff"/>
                </a:solidFill>
                <a:latin typeface="Century Gothic"/>
              </a:rPr>
              <a:t>cratic)</a:t>
            </a:r>
            <a:endParaRPr b="0" lang="en-US" sz="2200" spc="-1" strike="noStrike">
              <a:solidFill>
                <a:srgbClr val="ffffff"/>
              </a:solidFill>
              <a:latin typeface="Century Gothic"/>
            </a:endParaRPr>
          </a:p>
          <a:p>
            <a:pPr lvl="1" marL="822240" indent="-285840">
              <a:lnSpc>
                <a:spcPct val="8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ssimilated/absorbed prefixes (in+merse=immerse)</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7200" y="268200"/>
            <a:ext cx="8229600" cy="1395360"/>
          </a:xfrm>
          <a:prstGeom prst="rect">
            <a:avLst/>
          </a:prstGeom>
          <a:ln w="0">
            <a:noFill/>
          </a:ln>
        </p:spPr>
      </p:pic>
      <p:sp>
        <p:nvSpPr>
          <p:cNvPr id="31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lps tailor instruction and allows teachers to learn about their students’ orthographic understanding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ngoing monitoring of students’ writing is one part of the information-gathering proces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eriodic assessment with a dictated word inventory is anoth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7200" y="268200"/>
            <a:ext cx="8229600" cy="1395360"/>
          </a:xfrm>
          <a:prstGeom prst="rect">
            <a:avLst/>
          </a:prstGeom>
          <a:ln w="0">
            <a:noFill/>
          </a:ln>
        </p:spPr>
      </p:pic>
      <p:sp>
        <p:nvSpPr>
          <p:cNvPr id="319"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nables teachers to identify stages of spelling development, highlight specific strengths and weaknesses, and monitor progress over time</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ncludes: </a:t>
            </a:r>
            <a:endParaRPr b="0" lang="en-US" sz="2800" spc="-1" strike="noStrike">
              <a:solidFill>
                <a:srgbClr val="ffffff"/>
              </a:solidFill>
              <a:latin typeface="Century Gothic"/>
            </a:endParaRPr>
          </a:p>
          <a:p>
            <a:pPr lvl="1" marL="822240" indent="-285840">
              <a:lnSpc>
                <a:spcPct val="9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 Screening Inventory (identifies the developmental spelling stage of students)</a:t>
            </a:r>
            <a:endParaRPr b="0" lang="en-US" sz="2400" spc="-1" strike="noStrike">
              <a:solidFill>
                <a:srgbClr val="ffffff"/>
              </a:solidFill>
              <a:latin typeface="Century Gothic"/>
            </a:endParaRPr>
          </a:p>
          <a:p>
            <a:pPr lvl="1" marL="822240" indent="-285840">
              <a:lnSpc>
                <a:spcPct val="9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wo different, but parallel, Feature Inventories (identifies strengths and weaknesses of spelling features and used to determine the particular instructional needs of student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4T15:18:34Z</dcterms:created>
  <dc:creator>Harris, Shelly</dc:creator>
  <dc:description/>
  <dc:language>en-US</dc:language>
  <cp:lastModifiedBy>Harris, Angela</cp:lastModifiedBy>
  <dcterms:modified xsi:type="dcterms:W3CDTF">2013-02-25T19:34:08Z</dcterms:modified>
  <cp:revision>36</cp:revision>
  <dc:subject/>
  <dc:title>Word Journeys</dc:title>
</cp:coreProperties>
</file>